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43702"/>
        <c:axId val="62484396"/>
      </c:barChart>
      <c:catAx>
        <c:axId val="25843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84396"/>
        <c:crosses val="autoZero"/>
        <c:auto val="1"/>
        <c:lblAlgn val="ctr"/>
        <c:lblOffset val="100"/>
        <c:noMultiLvlLbl val="0"/>
      </c:catAx>
      <c:valAx>
        <c:axId val="624843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43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C58-A752-4E9C-B087-CA0898FF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A41-F930-44D4-8E98-1AA34FA8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DD24-1C36-445A-BF59-02C546B6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D48-F0B0-40F0-BF54-62262B97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401C-EBA4-4123-9A28-0E6B13CF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8E3-38A1-44B2-816B-E7087CD7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2A6D-6D85-4255-B9D5-608E8941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DC9F-979A-4C6C-ABA3-C0F6E650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14D-3E88-49E2-A1EF-814802E6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5929-5B12-46BA-8C83-965C014F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6029-E63E-4115-AB06-E0BE7AA7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48A-B271-49DD-9DCA-761686A6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40E7E-E3A5-4D89-81CB-051786A3DA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