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7682984"/>
        <c:axId val="14137419"/>
      </c:barChart>
      <c:catAx>
        <c:axId val="1768298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137419"/>
        <c:crosses val="autoZero"/>
        <c:auto val="1"/>
        <c:lblAlgn val="ctr"/>
        <c:lblOffset val="100"/>
        <c:noMultiLvlLbl val="0"/>
      </c:catAx>
      <c:valAx>
        <c:axId val="1413741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68298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D215B-6E30-4DF8-88A0-C9FB1CE94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C2020-C143-4C99-A32F-06D225AB3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2CF98-42C6-4228-9AEB-07D764A1B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30746-153E-4A07-8A80-88FD8B344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30AC7-7900-481C-A166-7E7C32B2B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69FC5-BEA8-4E00-B356-A1990FF7C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325DD-EA2E-4DAD-BAE7-0595F42A6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C7818-0749-462A-A7B8-4927E6703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121D1-90AB-4C77-83EA-3B365F664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2D462-3E9D-4AE0-810D-9F8202CDC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27E5F-14D8-4009-A1B8-CA3E91548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ED21D-BC76-4F70-892A-2467F8FA9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1730C5-DB3C-4B1C-83C3-6E5C832DDBA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