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75195"/>
        <c:axId val="48799052"/>
      </c:barChart>
      <c:catAx>
        <c:axId val="67175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99052"/>
        <c:crosses val="autoZero"/>
        <c:auto val="1"/>
        <c:lblAlgn val="ctr"/>
        <c:lblOffset val="100"/>
        <c:noMultiLvlLbl val="0"/>
      </c:catAx>
      <c:valAx>
        <c:axId val="48799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75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E42-D583-4482-86C8-4C966609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AC6-3236-423A-9B7B-FBC5C297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C52-3893-4EFD-8351-6C575348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9A2-A35F-444D-BB32-40B2B0AA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70A-56A3-45BB-AE3E-FBCE9E85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DA7-77FC-4A57-B4E1-20DB133D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A68-BDF6-45F4-B318-53B98C32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720-07C3-42C4-82D6-386EE569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460-54E4-4E82-8348-BFB357B3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36A-101A-47A5-99D5-88687908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546-7252-48C3-B758-8CDDDF40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808-451A-4A85-8BA0-E1DFA705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19CA4-2FD3-46A6-8A85-B4FB0B8B88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